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7ED-7A57-43DA-8698-8E4BAD6C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BE7-D379-4C54-9D2C-7BA93C2D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17CE8-7612-4F7D-B3BF-33BAFA90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65488-678C-471E-A96D-C0FA9106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091F9-E604-4E94-9641-25EA056F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0878D-65BC-4137-A665-64424E9E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39D00-992E-495D-A330-96FEB34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B0D45-8E7D-4390-9527-9CE72D8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EE021-3DB9-4B1A-86F5-18BB974D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77BC2-C9FA-457C-88F1-22A9FC58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BBB26-AEE2-4D7F-BA1F-A660F542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07133-40E5-4C29-B306-3F0BB685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B92-4E3B-4C42-A302-B3CB139C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5B559-DE3B-46EA-8755-BEFC613B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D0CC9-E655-4FD3-A56B-2EA476CD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864C2-FAB0-4551-BE73-B397D5DB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06CE3-EE2F-49D6-BA49-89B0F315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54AFB-4757-43E5-8173-1F741119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24937-1A4D-443B-92E4-E97927F0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6FC6F-D4F8-4539-9AA6-60412CC6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CFC94-0711-4EDB-B1BC-C136EE71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85C3E-A149-4E13-BC61-6AFA6880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03FC4-F373-47CF-BEB5-FA35AADC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ABC-BB47-4354-9AE8-58BE5938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5E3DD-1A55-4089-85AF-F53C2570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821BE-ACE7-4BF8-9209-814AB3B1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DA891-0D35-437B-BADC-29F6BFCC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5D9F4-DB28-4233-BA20-1F0F1961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DC11B-D3E5-4CA2-8DBD-ECDC5F6E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7E224-765C-41DF-A8DD-4EC0FD99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BA9AC-2A7F-4F44-8476-A9698998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F3F33-BA31-41C1-A19E-C2C85151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17B85-4082-4302-BBC9-38886DD1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EE5E0-40E8-44C4-BAB0-4F6AA013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148F-EFE8-4D38-80AB-C944367A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FB579-FA18-45FF-A5A9-8E298E86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82C4E-6031-4C11-B3BF-2FFDB570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C86E6-4168-401B-9274-B063CB14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BDE3B-14DF-47B2-8B9D-6079C48C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4B5DC-7B29-4817-8C5B-6C8F137D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CA5CA-A718-48C9-B0D4-88751D5A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3CD4B-2E68-4921-B910-E248DDCF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B967A-E25C-4450-A838-BF9D9926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3F95E-7C62-4B43-B7CD-F0AC1F36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26C1D-00DB-4F3D-9621-8FFF4F57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405C-2D8D-4F12-9BA2-7A3C5341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CCD6A-5B3C-4B24-A7DC-51C11277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05CBF-9BB2-46FA-B9E1-FFB0F4FC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65A51-220F-4766-9B07-28558B17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A5765-FF52-4951-A355-E1836D47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CF6DD-BF39-4D98-A434-DE6330B9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CC51F-D8DF-4BF4-ABD9-7B555B3A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78B12-D8F7-4710-8F42-03FD4865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F49EF-5F57-4F7E-ADD9-9EE5CB2B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C31FD-E50D-421E-BE41-E08BAD66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CC4A4-91B0-4985-8E97-E7C67DEE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96BA-D10B-4FA9-B751-C9E293D4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006D3-F071-4F99-B172-FF638A4F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257CC-949C-4327-BECF-DEE3BA3E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6BA10-5D52-48E5-9B70-9C78C815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42729-5A05-4EE4-99F2-E2E8CD52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29303-C56A-45B0-9C74-CEC156A7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5247A-ABCB-4918-9453-07B74B54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12F39-D9EE-45D7-8F15-16562968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19655-9150-46EC-9987-9023263C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3C13E-1E53-468C-AAEB-928E5C8F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2543E-2625-4ABD-AFBE-2F234C2B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E631-B840-4D0C-AB63-1262D5E2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032C7-521F-4C3B-B347-4076BE81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1D9A6-7766-4CE1-8B87-24E59CAD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7E581-CD77-4884-ADD6-F48289A0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94661-62AB-4A75-8E77-AC7FE763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8D55C-1FE0-44E1-AE3D-E289D09B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4C2742-974E-4C2B-9E13-9AC3F296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9D44F-DFDB-4D0C-84CD-20CCCCB6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60CE0-560D-4107-A725-AE10A3FB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6B47D-9A00-4BE6-8393-F584248C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F401E-E2DE-4E26-8E35-2C5EBD3B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5F5D-47A6-4394-9E54-6418077C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94197-6158-4E88-9A82-D8F929F5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4DD36B-B9A5-4648-9434-CBD611A5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962910-5AA6-4AB4-A5CD-D9329570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98CA8-EE19-43C1-81E9-748C85B3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9502D4-991B-45CC-85D6-F34C3E7A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6028F-10E2-4D67-B41C-647C2E10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89379-B93E-4EE4-A61F-2601BF2C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827C1-3526-4B90-B7BC-7DB94BE7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BDB23-B8DE-4C87-A856-460715AB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5FDC1-3085-4E5F-B2CA-19AFAF56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147E-0B08-41EF-B68A-356FB6BB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7ECF9-7BB7-408B-83BB-248213A1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AD05E-81B6-49A6-AAE1-CC65E772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49B8E-F720-40EC-94D0-EF8F1676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859AA-4AE1-4001-8635-0BE6C846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A0685-42E7-4127-B539-EFF082C4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D79636-FC5B-4824-9B39-4FEDBAD0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F6130A-E32F-403C-BE97-DF363F09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5F681-8730-4874-AD84-29871141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F10A6-EA02-4432-9498-1907A899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9CA399-74A8-437C-BB5A-D2A6B72E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DF83-089B-4351-B52E-93633CF3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3AAD4A-4F23-49E5-80E0-3D507E85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157007-0D8F-478D-A03A-814F2759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797C2-6D6A-42D0-83FC-C66568B7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35A888-722E-4484-989D-D3D8C395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A66C1-D780-49F6-826B-ED3A6DF2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56512-AF8E-46A5-8978-EB835CBC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1FDE7-4DA2-4A1E-AE8A-20F7545C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04CD6-41DF-4574-BBDA-4ECF6524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7FA032-4EA1-4B17-B9B5-91CB1471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1D2CFA-0483-4CEF-8BB7-ECD45DA3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EE9-A609-4BBE-86D3-8BB31D5A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7087-7C4F-4848-B66F-15756616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89791-0796-4D6C-95FA-5600F0C3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64B58-604F-408E-9A50-F1D95A32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D7FDA-4356-4959-8EFF-D7361C69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13E49C-B23B-4096-8CEF-2F841279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523D0-CA4D-420C-845E-2F4A14C6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0DB43-6B58-4301-8187-D7097F49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4D8F12-F2C6-431A-A3D2-EACFD833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5CA82A-472B-400D-B193-FCE77C52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F80DFA-E3C5-4FA4-90CF-BD34767A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4193DF-4449-4943-B36F-51ED441D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9A55-964D-4CC9-8F8E-6B67233E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B3E62-C580-4786-B621-7C1AD639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5E1BE-426E-406D-8AE8-9FC4146E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925628-40DE-494A-81D3-214D63F4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11A8B-CC68-43FC-A9CA-20697764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54A9E4-3096-4DD4-A883-4C8B5E76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50BFD8-F0BC-4E99-82C1-FB46A110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365716-E189-4BA6-99A2-550C9B34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A8ED-7121-4B57-A0BA-8E8E84C8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A596-ADB0-4146-91F6-460AB8B6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D59A-498F-47A4-84F3-32CD1AF1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C8BF5-1F96-4E0F-A6D6-CB4102CE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BB2D-860F-4C5B-BE2C-7DC100F4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62FA-5F2E-423C-9293-89AF113D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532D7-4DCE-4D49-BBB8-5A3FCFA6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A1FD3-CD63-4983-BDCA-419F8F13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7C8-1AD7-45A6-A7DD-48262F16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6A23-47DA-4FAF-8B86-A7C9E2C3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1088-4CBD-4712-B145-14A4E533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AE34-6446-4E41-A160-41D35C3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FA92-18EA-44A8-9F45-CE37418B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20CCF-8072-42CF-9C9D-1CC92705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0D875-164F-4B61-860C-A524E988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8CC4-69D1-40CC-A750-F03825EA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F5C4A-7EEB-490F-93D4-B8AB87C0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B442A-C5BC-48F9-956B-72710E81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34908-F172-498E-A862-E6E26290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31A-DCAC-4004-860D-4D7B0E68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241EA-F269-45FB-8252-8D5D5318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8D746-6454-4E82-A9E1-F3816070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15327-B038-47E2-8E7D-ABCE937E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3DEE-3A7D-4CE6-8AC7-D2A35C8B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00C2-ECFD-4595-AFFD-EAD4AAE4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8F78D-519D-4FCB-A1BC-FCDB3428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FF58D-C956-4CA7-BF1C-42947A1C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E3705-338B-4BB8-83C8-1669496C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3A034-93B5-41F4-9F5C-D9F16E6F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5A693-D022-4597-9A9D-40BE21CE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FCC-614F-4752-B03F-BB576167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8D3F2-A524-4112-B1EA-CBFC2CB8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A0CF0-6048-4539-B6E5-4E001D19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82B7F-2B2A-4858-8398-A09D4A58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143F3-6DD7-4524-B350-528CBBCB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62BF9-7C83-4768-A8D3-C75F81E4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B6C18-D6F4-44BD-91F8-CB4C9BDC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2CD0B-98FD-4FC5-8E44-85F8121F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69A78-3CC0-4BF9-9DDE-B25654AF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9F4D-2EA2-4E6F-B37F-2CFDAF36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203C6-9528-482E-B889-ED840748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1F3-388F-4F9F-8DCD-91934C2D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854BA-0234-42BD-99CF-8EAED805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CE20B-0670-4A03-A596-B7C35279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E8712-5650-4259-8937-22B8065D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1F3A0-A750-465C-8A20-C172A4D0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15F7C-39A7-4663-9375-C5B342EB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445EF-C2FD-4345-A7B6-5BBFAF20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4951F-49E0-4AA5-8992-99F1DAC8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789C1-5C34-4234-9875-D8DC8240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1E4C1-ABEE-4AEB-9A18-349CB01E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EC1A-3009-4F92-9AF5-3615C23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56E-F904-4B65-A915-20A163C8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7FE7F-03A6-47F4-AF4B-E8DAAD2F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3A99B-AAC9-4860-8446-EE582508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7BE82-C90F-4335-B771-A5BD7F27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7235D-887C-4855-A07E-475161E7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83AA9-08A5-4DDA-9FCB-20D90706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091D0-4855-44FE-A778-BAD58574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1644D-E092-4695-8ABD-F8CD53AE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F7CBE-8A7D-4023-AAF2-DA6D0B2C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3B363-5B0B-4153-9A83-02D46C0C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61AC8-E0D3-4454-8650-6D42AEF4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743-3A78-45E3-8CDD-AF940854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55A23-E534-4C0F-B362-EC58A13D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DD5D5-5486-4A63-8BEB-C31C665E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8FB99-27FD-43EE-B02A-AEAB2070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90035-5A10-4E2E-BE73-C96E9BF8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47CC2-0398-4CF8-B0D1-36661BAB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4EE35-4779-40D7-9129-89E02DBF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9BA2D-CA2F-42CD-BA9B-AF3DFE23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D4BFA-5BCF-44B0-885F-0E6C30B0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06D02-B4FE-4ADD-9BCE-21019229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BD79C-AFBA-4A34-B61D-46DBAB0A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5CF-38F5-4278-9EE6-DB01C576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865B8-025D-46F0-80AA-68B91BC1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0A913-D5EC-47A8-98FC-2DD6E682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B40A8-6BAB-43D2-A175-F47F609D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160C2-3A6B-4987-BAEA-A110FA06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B47C4-E4D8-4F3F-9B17-FBA6D2C1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1C4ED-135B-4697-98F2-710B0AC5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C768A-23C7-41F3-AECF-180636F9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12D53-1B9E-4AAE-A8CE-99F3FE41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6C632-60FC-4F09-998E-76A4E94F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42122-47C2-4288-9187-4E0BC89F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68B6C-A3A7-41B0-8047-E7FCF2891CA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6AB29-0F2F-4935-8C18-1EDFFC06BE5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B9468-5048-4317-8702-C68D04071A7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51E55-8EA7-4BF9-87F7-29F36FD718B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  <a:ea typeface="新細明體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  <a:ea typeface="新細明體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6D8B8-F910-4F09-A043-152C5A6D041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EF6E9-45BA-4C84-A03B-B24FE15BDD0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A03B1-ADA0-47BE-8BA1-3A60852610E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2D319-62E6-45BF-AEE2-DC73E0CFE94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D2DFE-0659-480D-B6C8-36EABECB2F0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6D244-803F-4477-A1E1-449FACB9880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04BDA-3608-434B-9319-98CE1B12572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2EF48-9C98-4FDA-9D4F-0293C31C38E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67053-313D-4805-A627-0C5CFE90938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A9C1A-B4F6-42BE-B4D9-AB9F431075C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EC80F-891A-4D0F-9C2A-88D6CBA1B6F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D1A4F-E6CA-45B4-9DB5-639CEA04C4C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A0278-6774-4C55-85AF-648F2F1F854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5F7CC-224F-4873-B032-1BCE65BE8FB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earch.books.com.tw/exep/prod_search.php?key=&#38463;&#37096;&#22799;&#20024;&amp;f=author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39760" y="1775880"/>
            <a:ext cx="8690040" cy="14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ff0000"/>
                </a:solidFill>
                <a:latin typeface="華康行楷體W5(P)"/>
                <a:ea typeface="華康行楷體W5(P)"/>
              </a:rPr>
              <a:t>說謊的阿大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2939760" y="373212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d0d0d"/>
                </a:solidFill>
                <a:latin typeface="華康儷中黑"/>
                <a:ea typeface="華康儷中黑"/>
              </a:rPr>
              <a:t>學科閱讀教師：李欣怡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7" name="圖片 4" descr="https://ec.cw1.tw/cwbook/images/Resource/web/bproduct/8/0000012288/0000012288.jpg?now=20170406081656357"/>
          <p:cNvPicPr/>
          <p:nvPr/>
        </p:nvPicPr>
        <p:blipFill>
          <a:blip r:embed="rId1"/>
          <a:stretch/>
        </p:blipFill>
        <p:spPr>
          <a:xfrm>
            <a:off x="669960" y="165240"/>
            <a:ext cx="3000240" cy="94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1096560" y="115236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d0d0d"/>
                </a:solidFill>
                <a:latin typeface="標楷體"/>
                <a:ea typeface="標楷體"/>
              </a:rPr>
              <a:t>一、基本資料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d0d0d"/>
                </a:solidFill>
                <a:latin typeface="標楷體"/>
                <a:ea typeface="標楷體"/>
              </a:rPr>
              <a:t>作</a:t>
            </a:r>
            <a:r>
              <a:rPr b="0" lang="en-US" sz="4000" spc="-1" strike="noStrike">
                <a:solidFill>
                  <a:srgbClr val="0d0d0d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d0d0d"/>
                </a:solidFill>
                <a:latin typeface="標楷體"/>
                <a:ea typeface="標楷體"/>
              </a:rPr>
              <a:t>者： </a:t>
            </a:r>
            <a:r>
              <a:rPr b="0" lang="zh-TW" sz="4000" spc="-1" strike="noStrike" u="sng">
                <a:solidFill>
                  <a:srgbClr val="2aa2da"/>
                </a:solidFill>
                <a:uFillTx/>
                <a:latin typeface="標楷體"/>
                <a:ea typeface="標楷體"/>
                <a:hlinkClick r:id="rId1"/>
              </a:rPr>
              <a:t>阿部夏</a:t>
            </a:r>
            <a:r>
              <a:rPr b="0" lang="zh-TW" sz="4000" spc="-1" strike="noStrike">
                <a:solidFill>
                  <a:srgbClr val="0d0d0d"/>
                </a:solidFill>
                <a:latin typeface="標楷體"/>
                <a:ea typeface="標楷體"/>
              </a:rPr>
              <a:t>丸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d0d0d"/>
                </a:solidFill>
                <a:latin typeface="標楷體"/>
                <a:ea typeface="標楷體"/>
              </a:rPr>
              <a:t>譯者： 游韻馨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d0d0d"/>
                </a:solidFill>
                <a:latin typeface="標楷體"/>
                <a:ea typeface="標楷體"/>
              </a:rPr>
              <a:t>繪者： 村上豊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d0d0d"/>
                </a:solidFill>
                <a:latin typeface="標楷體"/>
                <a:ea typeface="標楷體"/>
              </a:rPr>
              <a:t>出版年：</a:t>
            </a:r>
            <a:r>
              <a:rPr b="0" lang="en-US" sz="4000" spc="-1" strike="noStrike">
                <a:solidFill>
                  <a:srgbClr val="0d0d0d"/>
                </a:solidFill>
                <a:latin typeface="Calibri"/>
                <a:ea typeface="標楷體"/>
              </a:rPr>
              <a:t>2014/03/11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d0d0d"/>
                </a:solidFill>
                <a:latin typeface="標楷體"/>
                <a:ea typeface="標楷體"/>
              </a:rPr>
              <a:t>出版社：親子天下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標題 1"/>
          <p:cNvSpPr/>
          <p:nvPr/>
        </p:nvSpPr>
        <p:spPr>
          <a:xfrm>
            <a:off x="1763640" y="0"/>
            <a:ext cx="869004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華康行楷體W5(P)"/>
                <a:ea typeface="華康行楷體W5(P)"/>
              </a:rPr>
              <a:t>說謊的阿大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926640" y="1334880"/>
            <a:ext cx="1036332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二、對應領域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年段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章節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名稱：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適合領域：國文領域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適讀年級：七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九年級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搭配課程：八年級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定伯賣鬼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標題 1"/>
          <p:cNvSpPr/>
          <p:nvPr/>
        </p:nvSpPr>
        <p:spPr>
          <a:xfrm>
            <a:off x="1763640" y="0"/>
            <a:ext cx="869004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華康行楷體W5(P)"/>
                <a:ea typeface="華康行楷體W5(P)"/>
              </a:rPr>
              <a:t>說謊的阿大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926640" y="1058760"/>
            <a:ext cx="1036332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三、書籍介紹：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「以前的我，每天滿腦子想的都是，怎麼做才能讓班上同學喜歡我。自從好好跟阿大相處後，我變了。現在的我，終於學會一步步的發現自己、找到自己。」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—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健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健太卻也因此陷入困境。他不想被人知道他和怪咖阿大一起玩，卻也不想跟同學說謊；看到阿大被同學們恥笑是「騙子」的時候，唯一知道真相的健大會挺身而出嗎？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標題 1"/>
          <p:cNvSpPr/>
          <p:nvPr/>
        </p:nvSpPr>
        <p:spPr>
          <a:xfrm>
            <a:off x="1763640" y="0"/>
            <a:ext cx="869004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華康行楷體W5(P)"/>
                <a:ea typeface="華康行楷體W5(P)"/>
              </a:rPr>
              <a:t>說謊的阿大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926640" y="108432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健太的班上來了一個轉學生大介。這個傢伙很奇怪，嘴裡說的都是一些令人覺得不可思議的事情，像是他吃過蟲蛹、曾經有猴子跑到他家，學校附近的家下川裡有魚有烏龜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…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怎麼想都覺得他是在開玩笑。久而久之，大介有了「騙子阿大」的綽號，漸漸的被同學排擠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豐富的河川生態在暖洋洋的夏天恣意生長；霸凌集團與沉默的共犯在大智若愚的情節裡，找到了頂天立地的自己；不求甚解自以為是的知識信仰者，終於掏盡河底的淤泥看到真相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因為大介不擔心同學不喜歡他，因為大人們沒在這個故事裡說三道四，因此，這個故事純淨自然，教我們找到自己的本心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標題 1"/>
          <p:cNvSpPr/>
          <p:nvPr/>
        </p:nvSpPr>
        <p:spPr>
          <a:xfrm>
            <a:off x="1763640" y="0"/>
            <a:ext cx="86900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行楷體W5(P)"/>
                <a:ea typeface="華康行楷體W5(P)"/>
              </a:rPr>
              <a:t>我的反思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914040" y="1214280"/>
            <a:ext cx="1065996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標楷體"/>
              </a:rPr>
              <a:t>Q1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、為什麼大介的同學不相信他所說的話，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認為他在說謊呢？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標楷體"/>
              </a:rPr>
              <a:t>Q2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、健太為什麼放學後和大介黏在一起玩，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標楷體"/>
              </a:rPr>
              <a:t>        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但是在學校卻保持一定的距離呢？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標題 1"/>
          <p:cNvSpPr/>
          <p:nvPr/>
        </p:nvSpPr>
        <p:spPr>
          <a:xfrm>
            <a:off x="1763640" y="0"/>
            <a:ext cx="869004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行楷體W5(P)"/>
                <a:ea typeface="華康行楷體W5(P)"/>
              </a:rPr>
              <a:t>提問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927000" y="1031760"/>
            <a:ext cx="10660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標楷體"/>
              </a:rPr>
              <a:t>Q3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、為什麼夏葉為了讓同學喜歡她，在班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上要故意裝乖巧，不能做真實的自己，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而要假裝戴上面具呢？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標楷體"/>
              </a:rPr>
              <a:t>Q4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、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敬一和大介對家下川魚類的研究方法，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有什麼不同呢？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標題 1"/>
          <p:cNvSpPr/>
          <p:nvPr/>
        </p:nvSpPr>
        <p:spPr>
          <a:xfrm>
            <a:off x="1763640" y="33480"/>
            <a:ext cx="869004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行楷體W5(P)"/>
                <a:ea typeface="華康行楷體W5(P)"/>
              </a:rPr>
              <a:t>提問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927000" y="1031760"/>
            <a:ext cx="10660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標楷體"/>
              </a:rPr>
              <a:t>Q5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、現在的我們，流行什麼話？流行什麼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穿著？如果有同學沒跟上流行，你會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如何看待？（例如：將校褲改成較為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合身、長褲的褲管反折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...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）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標題 1"/>
          <p:cNvSpPr/>
          <p:nvPr/>
        </p:nvSpPr>
        <p:spPr>
          <a:xfrm>
            <a:off x="1763640" y="33480"/>
            <a:ext cx="869004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行楷體W5(P)"/>
                <a:ea typeface="華康行楷體W5(P)"/>
              </a:rPr>
              <a:t>提問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779040" y="1045800"/>
            <a:ext cx="1065996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標楷體"/>
              </a:rPr>
              <a:t>Q6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、你願意推薦這本書給其他同學閱讀嗎？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請說明你的理由。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□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願意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□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不願意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理由一：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理由二：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標題 1"/>
          <p:cNvSpPr/>
          <p:nvPr/>
        </p:nvSpPr>
        <p:spPr>
          <a:xfrm>
            <a:off x="1763640" y="33480"/>
            <a:ext cx="869004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行楷體W5(P)"/>
                <a:ea typeface="華康行楷體W5(P)"/>
              </a:rPr>
              <a:t>提問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2T23:15:58Z</dcterms:created>
  <dc:creator>Admin</dc:creator>
  <dc:description/>
  <dc:language>en-US</dc:language>
  <cp:lastModifiedBy>Admin</cp:lastModifiedBy>
  <dcterms:modified xsi:type="dcterms:W3CDTF">2018-04-13T01:36:14Z</dcterms:modified>
  <cp:revision>8</cp:revision>
  <dc:subject/>
  <dc:title>說謊的阿大</dc:title>
</cp:coreProperties>
</file>